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376FF-D238-44BC-9A8C-457319E16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53D3E-B357-48E0-8D54-BEA9A2D9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12485-BCD9-441F-ACAD-A54893C8C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49E39-BE87-4345-BC72-C47B417B2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394FE-7A02-4EAA-914D-2A38247EF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B1B0B-FF5B-45E8-BFCE-8E9BFE1A9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72EFA-2A24-490B-A5CF-120CA6AC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9DE89-1D37-4EC9-8513-BF8C86E43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C049F-049F-43AA-B71D-5CBBD6609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72374-D401-4B99-99D4-837389ED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4B0FD-A6B9-4961-A412-BD96FB4AF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F309C-7DCE-40CB-9D36-C242C5413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8B5F-765D-4D5B-94D4-274A8AF3C481}"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7ED5-D44C-4060-A323-D357BB667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 Urettmessig informasjo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A86C94B9-007F-44A2-9776-614153317906}" type="slidenum">
              <a:t>1</a:t>
            </a:fld>
          </a:p>
        </p:txBody>
      </p:sp>
      <p:sp>
        <p:nvSpPr>
          <p:cNvPr id="6" name="PlaceHolder 5"/>
          <p:cNvSpPr>
            <a:spLocks noGrp="1"/>
          </p:cNvSpPr>
          <p:nvPr>
            <p:ph type="dt" idx="1"/>
          </p:nvPr>
        </p:nvSpPr>
        <p:spPr/>
        <p:txBody>
          <a:bodyPr/>
          <a:p>
            <a:fld id="{7546E346-57A2-40EA-B3E6-1797F8AC0FF0}"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
          <p:cNvSpPr/>
          <p:nvPr/>
        </p:nvSpPr>
        <p:spPr>
          <a:xfrm>
            <a:off x="457200" y="38088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Vest h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J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863,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AQJT9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yd</a:t>
            </a:r>
            <a:r>
              <a:rPr b="0" lang="nb-NO" sz="2400" spc="-1" strike="noStrike">
                <a:solidFill>
                  <a:srgbClr val="000000"/>
                </a:solidFill>
                <a:latin typeface="Times New Roman"/>
              </a:rPr>
              <a:t>	</a:t>
            </a:r>
            <a:r>
              <a:rPr b="0" lang="nb-NO" sz="2400" spc="-1" strike="noStrike">
                <a:solidFill>
                  <a:srgbClr val="000000"/>
                </a:solidFill>
                <a:latin typeface="Times New Roman"/>
              </a:rPr>
              <a:t>Vest</a:t>
            </a:r>
            <a:r>
              <a:rPr b="0" lang="nb-NO" sz="2400" spc="-1" strike="noStrike">
                <a:solidFill>
                  <a:srgbClr val="000000"/>
                </a:solidFill>
                <a:latin typeface="Times New Roman"/>
              </a:rPr>
              <a:t>	</a:t>
            </a:r>
            <a:r>
              <a:rPr b="0" lang="nb-NO" sz="2400" spc="-1" strike="noStrike">
                <a:solidFill>
                  <a:srgbClr val="000000"/>
                </a:solidFill>
                <a:latin typeface="Times New Roman"/>
              </a:rPr>
              <a:t>Nord</a:t>
            </a:r>
            <a:r>
              <a:rPr b="0" lang="nb-NO" sz="2400" spc="-1" strike="noStrike">
                <a:solidFill>
                  <a:srgbClr val="000000"/>
                </a:solidFill>
                <a:latin typeface="Times New Roman"/>
              </a:rPr>
              <a:t>	</a:t>
            </a:r>
            <a:r>
              <a:rPr b="0" lang="nb-NO" sz="2400" spc="-1" strike="noStrike">
                <a:solidFill>
                  <a:srgbClr val="000000"/>
                </a:solidFill>
                <a:latin typeface="Times New Roman"/>
              </a:rPr>
              <a:t>Ø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1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x</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D</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x alertert og rett forklart som 5-5 i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Du vet nå at TL vil fjerne 5 ♣ og gi en justert score basert på 4 ♠ 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s feilmelding er ikke et lovbrud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Øst’s forklaring er i samsvar med ØV sitt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 har den urettmessige informasjonen at han har meldt feil. Dersom Øst hadde forklart at vest sin melding viste en svak hånd med ♣ så hadde det vært et lovbrudd, men Vest hadde ikke hatt urettmessig info når han skulle vurdere et uttak etter 4 ♠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Uten vekkingen er pass og 5 ♣ logiske alternativer. Uttak i 5 ♣ 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foreslått av urettmessig informasjon” og tillates ikke.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85663F68-0633-415A-AE94-99E296AA629E}" type="slidenum">
              <a:t>10</a:t>
            </a:fld>
          </a:p>
        </p:txBody>
      </p:sp>
      <p:sp>
        <p:nvSpPr>
          <p:cNvPr id="4" name="PlaceHolder 3"/>
          <p:cNvSpPr>
            <a:spLocks noGrp="1"/>
          </p:cNvSpPr>
          <p:nvPr>
            <p:ph type="dt" idx="1"/>
          </p:nvPr>
        </p:nvSpPr>
        <p:spPr/>
        <p:txBody>
          <a:bodyPr/>
          <a:p>
            <a:fld id="{DF665425-4467-477D-A6C1-2591CB62031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
          <p:cNvSpPr/>
          <p:nvPr/>
        </p:nvSpPr>
        <p:spPr>
          <a:xfrm>
            <a:off x="479520" y="430200"/>
            <a:ext cx="8435880" cy="57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KQ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J98765</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A</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K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6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872</a:t>
            </a:r>
            <a:r>
              <a:rPr b="1" lang="nb-NO" sz="1600" spc="-1" strike="noStrike">
                <a:solidFill>
                  <a:srgbClr val="00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T</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alerterer forklarer (feil) at meldingen er overføring til</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76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J85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har forklart at meldingen er naturlig.</a:t>
            </a:r>
            <a:r>
              <a:rPr b="1" lang="nb-NO" sz="1600" spc="-1" strike="noStrike">
                <a:solidFill>
                  <a:srgbClr val="ff0000"/>
                </a:solidFill>
                <a:latin typeface="Times New Roman"/>
              </a:rPr>
              <a:t> </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J4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8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Hvilke logiske alternativer har Nor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4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Alle meldinger som fører til 4 </a:t>
            </a:r>
            <a:r>
              <a:rPr b="1" i="1" lang="nb-NO" sz="1600" spc="-1" strike="noStrike" u="sng">
                <a:solidFill>
                  <a:srgbClr val="000000"/>
                </a:solidFill>
                <a:uFillTx/>
                <a:latin typeface="Times New Roman"/>
                <a:ea typeface="Times New Roman"/>
              </a:rPr>
              <a:t>♠ evt. også sleminvi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Q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Den urettmessige informasjonen viser at Syd har oppfattet fe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KT9</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TL dømmer altså 4</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 (D?) med f.eks 5 stik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T96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_________________________________________________________________________________ </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eil forklaring inklusive manglende ale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ller ”vekking” etter rett forklaring eller feilaktig alerter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Det er ikke tillatt å bruke den urettmessig erhvervede informasjonen i et forsøk på å unngå katastrofen.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35EF10EA-63FB-4E50-B870-7373C1DA504D}" type="slidenum">
              <a:t>11</a:t>
            </a:fld>
          </a:p>
        </p:txBody>
      </p:sp>
      <p:sp>
        <p:nvSpPr>
          <p:cNvPr id="4" name="PlaceHolder 3"/>
          <p:cNvSpPr>
            <a:spLocks noGrp="1"/>
          </p:cNvSpPr>
          <p:nvPr>
            <p:ph type="dt" idx="1"/>
          </p:nvPr>
        </p:nvSpPr>
        <p:spPr/>
        <p:txBody>
          <a:bodyPr/>
          <a:p>
            <a:fld id="{2AFC314F-135E-420D-AC9F-A58995CADED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411120" y="457200"/>
            <a:ext cx="8321760" cy="558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eldingene går: 2</a:t>
            </a:r>
            <a:r>
              <a:rPr b="0" lang="nb-NO" sz="2000" spc="-1" strike="noStrike">
                <a:solidFill>
                  <a:srgbClr val="000000"/>
                </a:solidFill>
                <a:latin typeface="Times New Roman"/>
                <a:ea typeface="Times New Roman"/>
              </a:rPr>
              <a:t>♦(alert), Pass, 3♥(alert), ? Hva betyr dette? Pa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Meldingene forklares som Multi og Pass eller korrig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Spørreren passer uten noen tenkepa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Kan det være UI til spørrerens makker i denne sekvensen</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Grattan Endicot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har kommentert slike situasjoner genere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Slik lovene nå er, dersom en spiller stiller et spørsmål, uten skjermer, så er svaret på dette spørsmålet rettmessig informasjon for hans mak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en dersom innholdet i spørsmålet eller det faktum at det blir stilt kan gi makkeren en ide om hvordan spørrerens hånd kan se ut så er dette UI som makker ikke kan bru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det er slik fremgår av loven slik den definerer mulige kilder for urettmessig informasj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3A73C27C-6628-48C3-8EB1-A0B71C4883BA}" type="slidenum">
              <a:t>12</a:t>
            </a:fld>
          </a:p>
        </p:txBody>
      </p:sp>
      <p:sp>
        <p:nvSpPr>
          <p:cNvPr id="4" name="PlaceHolder 3"/>
          <p:cNvSpPr>
            <a:spLocks noGrp="1"/>
          </p:cNvSpPr>
          <p:nvPr>
            <p:ph type="dt" idx="1"/>
          </p:nvPr>
        </p:nvSpPr>
        <p:spPr/>
        <p:txBody>
          <a:bodyPr/>
          <a:p>
            <a:fld id="{FAA9B279-72C0-45C7-9439-3B514F043A9E}"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anvare og UI</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 avgitt av vanvare overfører ikke UI.</a:t>
            </a:r>
            <a:endParaRPr b="0" lang="en-US" sz="28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Din makker alerterer din melding, overrasket ser du ned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br>
              <a:rPr sz="2000"/>
            </a:b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VM stiller et rart spørsmål og du ser ned på meldingen din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D0616BD7-6664-4465-84AD-8DCFB42ACAE5}" type="slidenum">
              <a:t>13</a:t>
            </a:fld>
          </a:p>
        </p:txBody>
      </p:sp>
      <p:sp>
        <p:nvSpPr>
          <p:cNvPr id="6" name="PlaceHolder 5"/>
          <p:cNvSpPr>
            <a:spLocks noGrp="1"/>
          </p:cNvSpPr>
          <p:nvPr>
            <p:ph type="dt" idx="1"/>
          </p:nvPr>
        </p:nvSpPr>
        <p:spPr/>
        <p:txBody>
          <a:bodyPr/>
          <a:p>
            <a:fld id="{1C0C2400-9068-472E-BDC8-4824B9C03B1D}"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enkepauser</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enkepauser er lovlige.</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iser imidlertid at melderen har alternative meldinger – eller at han er usikker på om det er rett melding</a:t>
            </a:r>
            <a:endParaRPr b="0" lang="en-US" sz="3200" spc="-1" strike="noStrike">
              <a:solidFill>
                <a:srgbClr val="000066"/>
              </a:solidFill>
              <a:latin typeface="Times New Roman"/>
            </a:endParaRPr>
          </a:p>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Makker kan få UI gjennom tenkepausen</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akker kan ikke benytte denne informasjonen når han skal velge meld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1B979D93-5AD9-4CD0-99F9-7AB5EEAA954D}" type="slidenum">
              <a:t>14</a:t>
            </a:fld>
          </a:p>
        </p:txBody>
      </p:sp>
      <p:sp>
        <p:nvSpPr>
          <p:cNvPr id="6" name="PlaceHolder 5"/>
          <p:cNvSpPr>
            <a:spLocks noGrp="1"/>
          </p:cNvSpPr>
          <p:nvPr>
            <p:ph type="dt" idx="1"/>
          </p:nvPr>
        </p:nvSpPr>
        <p:spPr/>
        <p:txBody>
          <a:bodyPr/>
          <a:p>
            <a:fld id="{E5557E61-31EA-4C54-A06C-1515730678BB}"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i sak om UI</a:t>
            </a:r>
            <a:endParaRPr b="0" lang="en-US" sz="4400" spc="-1" strike="noStrike">
              <a:solidFill>
                <a:srgbClr val="000066"/>
              </a:solidFill>
              <a:latin typeface="Times New Roman"/>
            </a:endParaRPr>
          </a:p>
        </p:txBody>
      </p:sp>
      <p:sp>
        <p:nvSpPr>
          <p:cNvPr id="7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t vært en situasjon som kunne overføre UI.</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n mulige bruken UI ført til ska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5"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Var det logiske alternativ (til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Kan valgt alternativ være foreslått foran andre logiske alternativer</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Justert Score</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A5EC2AB1-0AF0-42C1-9D67-FEDF68F7A4D7}" type="slidenum">
              <a:t>15</a:t>
            </a:fld>
          </a:p>
        </p:txBody>
      </p:sp>
      <p:sp>
        <p:nvSpPr>
          <p:cNvPr id="7" name="PlaceHolder 6"/>
          <p:cNvSpPr>
            <a:spLocks noGrp="1"/>
          </p:cNvSpPr>
          <p:nvPr>
            <p:ph type="dt" idx="1"/>
          </p:nvPr>
        </p:nvSpPr>
        <p:spPr/>
        <p:txBody>
          <a:bodyPr/>
          <a:p>
            <a:fld id="{32D9B6AA-39E0-40B0-89D6-E31FA378E06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følgen av dom om UI</a:t>
            </a:r>
            <a:endParaRPr b="0" lang="en-US" sz="44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ommen er </a:t>
            </a:r>
            <a:r>
              <a:rPr b="1" lang="en-US" sz="3600" spc="-1" strike="noStrike" u="sng">
                <a:solidFill>
                  <a:srgbClr val="990000"/>
                </a:solidFill>
                <a:uFillTx/>
                <a:latin typeface="Times New Roman"/>
              </a:rPr>
              <a:t>enten</a:t>
            </a:r>
            <a:r>
              <a:rPr b="0" lang="en-US" sz="3600" spc="-1" strike="noStrike">
                <a:solidFill>
                  <a:srgbClr val="990000"/>
                </a:solidFill>
                <a:latin typeface="Times New Roman"/>
              </a:rPr>
              <a:t> </a:t>
            </a:r>
            <a:r>
              <a:rPr b="1" lang="en-US" sz="3600" spc="-1" strike="noStrike" u="sng">
                <a:solidFill>
                  <a:srgbClr val="990000"/>
                </a:solidFill>
                <a:uFillTx/>
                <a:latin typeface="Times New Roman"/>
              </a:rPr>
              <a:t>eller</a:t>
            </a:r>
            <a:r>
              <a:rPr b="0" lang="en-US" sz="3600" spc="-1" strike="noStrike">
                <a:solidFill>
                  <a:srgbClr val="990000"/>
                </a:solidFill>
                <a:latin typeface="Times New Roman"/>
              </a:rPr>
              <a:t> handlingen (melding – utspill) kan </a:t>
            </a:r>
            <a:r>
              <a:rPr b="1" lang="en-US" sz="3600" spc="-1" strike="noStrike" u="sng">
                <a:solidFill>
                  <a:srgbClr val="990000"/>
                </a:solidFill>
                <a:uFillTx/>
                <a:latin typeface="Times New Roman"/>
              </a:rPr>
              <a:t>tillates</a:t>
            </a:r>
            <a:r>
              <a:rPr b="0" lang="en-US" sz="3600" spc="-1" strike="noStrike">
                <a:solidFill>
                  <a:srgbClr val="990000"/>
                </a:solidFill>
                <a:latin typeface="Times New Roman"/>
              </a:rPr>
              <a:t> eller </a:t>
            </a:r>
            <a:r>
              <a:rPr b="1" lang="en-US" sz="3600" spc="-1" strike="noStrike" u="sng">
                <a:solidFill>
                  <a:srgbClr val="990000"/>
                </a:solidFill>
                <a:uFillTx/>
                <a:latin typeface="Times New Roman"/>
              </a:rPr>
              <a:t>ikke tillates</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ed justering av score kan ikke en forbudt melding inngå i en 12C3 vekting</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Justering av score er eget tema på kurs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394DE090-5AF7-4F12-AFE6-1C486B7091DC}" type="slidenum">
              <a:t>16</a:t>
            </a:fld>
          </a:p>
        </p:txBody>
      </p:sp>
      <p:sp>
        <p:nvSpPr>
          <p:cNvPr id="6" name="PlaceHolder 5"/>
          <p:cNvSpPr>
            <a:spLocks noGrp="1"/>
          </p:cNvSpPr>
          <p:nvPr>
            <p:ph type="dt" idx="1"/>
          </p:nvPr>
        </p:nvSpPr>
        <p:spPr/>
        <p:txBody>
          <a:bodyPr/>
          <a:p>
            <a:fld id="{191BD14F-A632-4DD9-80A0-0E3E06B2FC25}"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a:t>
            </a: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745E07E7-A310-4753-8278-03F217D3E96F}" type="slidenum">
              <a:t>17</a:t>
            </a:fld>
          </a:p>
        </p:txBody>
      </p:sp>
      <p:sp>
        <p:nvSpPr>
          <p:cNvPr id="6" name="PlaceHolder 5"/>
          <p:cNvSpPr>
            <a:spLocks noGrp="1"/>
          </p:cNvSpPr>
          <p:nvPr>
            <p:ph type="dt" idx="1"/>
          </p:nvPr>
        </p:nvSpPr>
        <p:spPr/>
        <p:txBody>
          <a:bodyPr/>
          <a:p>
            <a:fld id="{83B3F94D-B855-4387-86FA-EB732B9C384E}"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I</a:t>
            </a:r>
            <a:endParaRPr b="0" lang="en-US" sz="4400" spc="-1" strike="noStrike">
              <a:solidFill>
                <a:srgbClr val="000066"/>
              </a:solidFill>
              <a:latin typeface="Times New Roman"/>
            </a:endParaRPr>
          </a:p>
        </p:txBody>
      </p:sp>
      <p:sp>
        <p:nvSpPr>
          <p:cNvPr id="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orrigere posisjonene rundt bordet.</a:t>
            </a:r>
            <a:r>
              <a:rPr b="0" lang="en-US" sz="3200" spc="-1" strike="noStrike">
                <a:solidFill>
                  <a:srgbClr val="990000"/>
                </a:solidFill>
                <a:latin typeface="Times New Roman"/>
              </a:rPr>
              <a:t> </a:t>
            </a:r>
            <a:endParaRPr b="0" lang="en-US" sz="32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turneringsformen og utregningsmåten tillater det, og ingen andre har sett sine kort, kan TL korrigere spillernes posisjoner rundt bordet, slik at en spiller som har informasjon om en bestemt hånd, får denne hånde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Utpeke en innbytter</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alle spillere er enige i det, kan TL utpeke en midlertidig innbytter for å erstatte den spilleren som mottok den urettmessige informasjo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Fastsette poeng direkte</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L kan straks fastsette poeng direkt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A8CB420D-B338-470D-9095-2AF114A00B5F}" type="slidenum">
              <a:t>18</a:t>
            </a:fld>
          </a:p>
        </p:txBody>
      </p:sp>
      <p:sp>
        <p:nvSpPr>
          <p:cNvPr id="6" name="PlaceHolder 5"/>
          <p:cNvSpPr>
            <a:spLocks noGrp="1"/>
          </p:cNvSpPr>
          <p:nvPr>
            <p:ph type="dt" idx="1"/>
          </p:nvPr>
        </p:nvSpPr>
        <p:spPr/>
        <p:txBody>
          <a:bodyPr/>
          <a:p>
            <a:fld id="{96700F48-53DC-4488-A3CB-916E611D12F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L og §16 B</a:t>
            </a:r>
            <a:endParaRPr b="0" lang="en-US" sz="4400" spc="-1" strike="noStrike">
              <a:solidFill>
                <a:srgbClr val="000066"/>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TL fatter beslutningene og han må derfor få gode opplysninger om hvilken informasjon som er mottatt og vurderer om den kan hindre normalt spill. </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Spillere kan trolig ikke nekte å spille et spill der de har slik informasjon, men de kan selvsagt appellere TL’s  beslutn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354861A6-0E10-484C-82AA-D58231CD0F98}" type="slidenum">
              <a:t>19</a:t>
            </a:fld>
          </a:p>
        </p:txBody>
      </p:sp>
      <p:sp>
        <p:nvSpPr>
          <p:cNvPr id="6" name="PlaceHolder 5"/>
          <p:cNvSpPr>
            <a:spLocks noGrp="1"/>
          </p:cNvSpPr>
          <p:nvPr>
            <p:ph type="dt" idx="1"/>
          </p:nvPr>
        </p:nvSpPr>
        <p:spPr/>
        <p:txBody>
          <a:bodyPr/>
          <a:p>
            <a:fld id="{620DAB54-49DD-4F9E-A67E-E8EBBE9D5BC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va som er lovlig info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rne har rett til å basere sine handlinger på informasjon fra </a:t>
            </a:r>
            <a:endParaRPr b="0" lang="en-US" sz="3200" spc="-1" strike="noStrike">
              <a:solidFill>
                <a:srgbClr val="000066"/>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Lovlige meldinger og spill,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pesielle adferdstrekk hos motstanderne.</a:t>
            </a:r>
            <a:br>
              <a:rPr sz="2400"/>
            </a:br>
            <a:r>
              <a:rPr b="0" lang="en-US" sz="2400" spc="-1" strike="noStrike">
                <a:solidFill>
                  <a:srgbClr val="990000"/>
                </a:solidFill>
                <a:latin typeface="Times New Roman"/>
              </a:rPr>
              <a:t>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n å basere sine handlinger på annen, urettmessig informasjon kan være lovbrud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EA255E5-CED3-4098-A671-0E2C74A16F49}" type="slidenum">
              <a:t>2</a:t>
            </a:fld>
          </a:p>
        </p:txBody>
      </p:sp>
      <p:sp>
        <p:nvSpPr>
          <p:cNvPr id="6" name="PlaceHolder 5"/>
          <p:cNvSpPr>
            <a:spLocks noGrp="1"/>
          </p:cNvSpPr>
          <p:nvPr>
            <p:ph type="dt" idx="1"/>
          </p:nvPr>
        </p:nvSpPr>
        <p:spPr/>
        <p:txBody>
          <a:bodyPr/>
          <a:p>
            <a:fld id="{C7723159-80FD-4F62-92B8-EDDFC26955C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16 C Informasjon fra meldinger og spill som blir trukket tilbake</a:t>
            </a:r>
            <a:endParaRPr b="0" lang="en-US" sz="3200" spc="-1" strike="noStrike">
              <a:solidFill>
                <a:srgbClr val="000066"/>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En melding eller et spill kan bli trukket tilbake og erstattet med en annen melding eller spill - enten av en ikke-feilende side etter at en motstander har begått et lovbrudd, eller av en feilende side for å korrigere et lovbrudd.</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feilende side</a:t>
            </a:r>
            <a:endParaRPr b="0" lang="en-US" sz="20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All informasjon som oppstår ved at en melding, et utspill eller et påspill blir trukket tilbake, er lovlig for den ikke-feilende side, uansett om det er deres egen eller motstandernes handling. </a:t>
            </a:r>
            <a:endParaRPr b="0" lang="en-US" sz="1600" spc="-1" strike="noStrike">
              <a:solidFill>
                <a:srgbClr val="000066"/>
              </a:solidFill>
              <a:latin typeface="Times New Roman"/>
            </a:endParaRPr>
          </a:p>
          <a:p>
            <a:pPr marL="343080" indent="-343080" algn="just">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eilende side</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0" lang="en-US" sz="1600" spc="-1" strike="noStrike">
                <a:solidFill>
                  <a:srgbClr val="000066"/>
                </a:solidFill>
                <a:latin typeface="Times New Roman"/>
              </a:rPr>
              <a:t>beviselig</a:t>
            </a:r>
            <a:r>
              <a:rPr b="1" lang="en-US" sz="1600" spc="-1" strike="noStrike">
                <a:solidFill>
                  <a:srgbClr val="000066"/>
                </a:solidFill>
                <a:latin typeface="Times New Roman"/>
              </a:rPr>
              <a:t> kunne fremstå som mer gunstig enn et annet.</a:t>
            </a: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1950F503-0D34-4AFF-A851-95C6F651C8FC}" type="slidenum">
              <a:t>20</a:t>
            </a:fld>
          </a:p>
        </p:txBody>
      </p:sp>
      <p:sp>
        <p:nvSpPr>
          <p:cNvPr id="6" name="PlaceHolder 5"/>
          <p:cNvSpPr>
            <a:spLocks noGrp="1"/>
          </p:cNvSpPr>
          <p:nvPr>
            <p:ph type="dt" idx="1"/>
          </p:nvPr>
        </p:nvSpPr>
        <p:spPr/>
        <p:txBody>
          <a:bodyPr/>
          <a:p>
            <a:fld id="{03FB55DB-7B3B-448C-B606-E670717B53D1}"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hva som rammes av 16 C </a:t>
            </a:r>
            <a:endParaRPr b="0" lang="en-US" sz="4400" spc="-1" strike="noStrike">
              <a:solidFill>
                <a:srgbClr val="000066"/>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er/spill gjort av vanvare rammes ikke</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Meldingen/spillet gjort i vanvare inneholder ikke noen info for noen av spillerne (utenom et evt. vist kort)</a:t>
            </a:r>
            <a:endParaRPr b="0" lang="en-US" sz="2800" spc="-1" strike="noStrike">
              <a:solidFill>
                <a:srgbClr val="000066"/>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VM har meldt/spilt etter en handling i vanvare og den første meldingen blir endret så er</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Informasjon fra den meldingen/spillet som VM må trekke tilbake </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Lovlig info for VM og HM</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Urettmessig info for vanvaremelderen og makk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A4644465-F0C8-4F04-A33B-ACD72E54A5CD}" type="slidenum">
              <a:t>21</a:t>
            </a:fld>
          </a:p>
        </p:txBody>
      </p:sp>
      <p:sp>
        <p:nvSpPr>
          <p:cNvPr id="6" name="PlaceHolder 5"/>
          <p:cNvSpPr>
            <a:spLocks noGrp="1"/>
          </p:cNvSpPr>
          <p:nvPr>
            <p:ph type="dt" idx="1"/>
          </p:nvPr>
        </p:nvSpPr>
        <p:spPr/>
        <p:txBody>
          <a:bodyPr/>
          <a:p>
            <a:fld id="{F39EEA64-C687-44F8-9932-192AAE5741A7}"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
          <p:cNvSpPr/>
          <p:nvPr/>
        </p:nvSpPr>
        <p:spPr>
          <a:xfrm>
            <a:off x="441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492120" y="380880"/>
            <a:ext cx="8410320" cy="544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 </a:t>
            </a:r>
            <a:r>
              <a:rPr b="1" lang="nb-NO" sz="1600" spc="-1" strike="noStrike">
                <a:solidFill>
                  <a:srgbClr val="000000"/>
                </a:solidFill>
                <a:latin typeface="Times New Roman"/>
                <a:ea typeface="Times New Roman"/>
              </a:rPr>
              <a:t>T62</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KQ986</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1 ♠ (vanv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T98</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2 ♣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etter 2 ♣ TL!!!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87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J94</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J7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4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Syd ser at det er 1</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som ligger på bordet og ik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764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1 NT som</a:t>
            </a:r>
            <a:r>
              <a:rPr b="1" lang="nb-NO" sz="1600" spc="-1" strike="noStrike">
                <a:solidFill>
                  <a:srgbClr val="ff0000"/>
                </a:solidFill>
                <a:latin typeface="Times New Roman"/>
              </a:rPr>
              <a:t> </a:t>
            </a:r>
            <a:r>
              <a:rPr b="1" lang="nb-NO" sz="1600" spc="-1" strike="noStrike">
                <a:solidFill>
                  <a:srgbClr val="000000"/>
                </a:solidFill>
                <a:latin typeface="Times New Roman"/>
              </a:rPr>
              <a:t>han trodde han hadde meldt. TL tillater endringen</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QT86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men ikke Syd har rett til å vite at Vest har kløverfar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Syd tar ruterfinessen og går en bet. Resultatet stå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AT5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J5</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86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er spillefører og spiller liten fra bordet Øst stje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K             974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følger med T og Vest med K. Øst oppdager revok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AQJT</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retter sitt kort Syd stikker med A og feller Vests K  </a:t>
            </a:r>
            <a:r>
              <a:rPr b="1" i="1" lang="nb-NO" sz="1600" spc="-1" strike="noStrike" u="sng">
                <a:solidFill>
                  <a:srgbClr val="000000"/>
                </a:solidFill>
                <a:uFillTx/>
                <a:latin typeface="Times New Roman"/>
              </a:rPr>
              <a:t>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amme forutsetninger, men denne gangen stjeler Syd og Vest følger med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Nå oppdager Syd fargesvikten og må rette til et logisk alternativ som ikke tar hensyn til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Vest har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600" spc="-1" strike="noStrike" u="sng">
                <a:solidFill>
                  <a:srgbClr val="000000"/>
                </a:solidFill>
                <a:uFillTx/>
                <a:latin typeface="Times New Roman"/>
              </a:rPr>
              <a:t>Syd får altså ikke lov til å spille A dersom det er et logisk alternativ å ta finess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60981887-860D-423D-AE1D-2E94AC4A631C}" type="slidenum">
              <a:t>22</a:t>
            </a:fld>
          </a:p>
        </p:txBody>
      </p:sp>
      <p:sp>
        <p:nvSpPr>
          <p:cNvPr id="4" name="PlaceHolder 3"/>
          <p:cNvSpPr>
            <a:spLocks noGrp="1"/>
          </p:cNvSpPr>
          <p:nvPr>
            <p:ph type="dt" idx="1"/>
          </p:nvPr>
        </p:nvSpPr>
        <p:spPr/>
        <p:txBody>
          <a:bodyPr/>
          <a:p>
            <a:fld id="{FA7D956B-950C-4658-9745-D848A6C05E22}"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luttreplikk</a:t>
            </a:r>
            <a:endParaRPr b="0" lang="en-US" sz="4400" spc="-1" strike="noStrike">
              <a:solidFill>
                <a:srgbClr val="000066"/>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rettmessig Informasjon – UI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Kan være til stor hjelp for spillere når de skal vurdere hva hånden egentlig er god fo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usk som dommer at dersom pass er det foreslåtte alternativet så døm at de går vider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esielle avtaler om krav stil etc. må kunne dokumenteres dersom TL skal se bort fra at UI er blitt benytt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094BF957-659D-4E69-BC4D-BD848A681FD4}" type="slidenum">
              <a:t>23</a:t>
            </a:fld>
          </a:p>
        </p:txBody>
      </p:sp>
      <p:sp>
        <p:nvSpPr>
          <p:cNvPr id="6" name="PlaceHolder 5"/>
          <p:cNvSpPr>
            <a:spLocks noGrp="1"/>
          </p:cNvSpPr>
          <p:nvPr>
            <p:ph type="dt" idx="1"/>
          </p:nvPr>
        </p:nvSpPr>
        <p:spPr/>
        <p:txBody>
          <a:bodyPr/>
          <a:p>
            <a:fld id="{B365977D-6F4F-4239-BF15-ECC817EDFE1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Urettmessig informasjon fra makker</a:t>
            </a:r>
            <a:endParaRPr b="0" lang="en-US" sz="3600" spc="-1" strike="noStrike">
              <a:solidFill>
                <a:srgbClr val="000066"/>
              </a:solidFill>
              <a:latin typeface="Times New Roman"/>
            </a:endParaRPr>
          </a:p>
        </p:txBody>
      </p:sp>
      <p:sp>
        <p:nvSpPr>
          <p:cNvPr id="48"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et hender at en spiller gir sin makker urettmessig informasjon som kan antyde en bestemt melding eller et spill. Det kan for eksempel skje ved hjelp av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n bemerkn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t spørsmå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var på et spørsmål, eller v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arkert nøl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unormal hastighe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pesielt ettertrykk, </a:t>
            </a:r>
            <a:endParaRPr b="0" lang="en-US" sz="2000" spc="-1" strike="noStrike">
              <a:solidFill>
                <a:srgbClr val="000066"/>
              </a:solidFill>
              <a:latin typeface="Times New Roman"/>
            </a:endParaRPr>
          </a:p>
        </p:txBody>
      </p:sp>
      <p:sp>
        <p:nvSpPr>
          <p:cNvPr id="49"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onefal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est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vegelser ell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re spesielle adferdstrekk. </a:t>
            </a:r>
            <a:endParaRPr b="0" lang="en-US" sz="2000" spc="-1" strike="noStrike">
              <a:solidFill>
                <a:srgbClr val="000066"/>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I slike tilfeller kan makkeren ikke blant logiske alternative handlemåter velge en handlemåte som beviselig er blitt foreslått fremfor en annen ved hjelp av den urettmessige informasjonen.</a:t>
            </a:r>
            <a:endParaRPr b="0" lang="en-US" sz="2400" spc="-1" strike="noStrike">
              <a:solidFill>
                <a:srgbClr val="99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02518B22-CD02-4834-B1C7-4C61F2F0DD53}" type="slidenum">
              <a:t>3</a:t>
            </a:fld>
          </a:p>
        </p:txBody>
      </p:sp>
      <p:sp>
        <p:nvSpPr>
          <p:cNvPr id="7" name="PlaceHolder 6"/>
          <p:cNvSpPr>
            <a:spLocks noGrp="1"/>
          </p:cNvSpPr>
          <p:nvPr>
            <p:ph type="dt" idx="1"/>
          </p:nvPr>
        </p:nvSpPr>
        <p:spPr/>
        <p:txBody>
          <a:bodyPr/>
          <a:p>
            <a:fld id="{E8FEF8F6-C92A-44E4-9239-C733BFB6CF6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ersom det er gitt urettmessig informasjon</a:t>
            </a:r>
            <a:endParaRPr b="0" lang="en-US" sz="3600" spc="-1" strike="noStrike">
              <a:solidFill>
                <a:srgbClr val="000066"/>
              </a:solidFill>
              <a:latin typeface="Times New Roman"/>
            </a:endParaRPr>
          </a:p>
        </p:txBody>
      </p:sp>
      <p:sp>
        <p:nvSpPr>
          <p:cNvPr id="51"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mener at en motstander har gitt sin makker urettmessig informasjon, </a:t>
            </a:r>
            <a:endParaRPr b="0" lang="en-US" sz="2400" spc="-1" strike="noStrike">
              <a:solidFill>
                <a:srgbClr val="990000"/>
              </a:solidFill>
              <a:latin typeface="Times New Roman"/>
            </a:endParaRPr>
          </a:p>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og at dette muligens kan skade spillerens side, kan han  - med mindre arrangørens bestemmelser forbyr det  - umiddelbart gjøre oppmerksom på at han reserverer seg rett til å tilkalle TL senere. </a:t>
            </a:r>
            <a:endParaRPr b="0" lang="en-US" sz="2400" spc="-1" strike="noStrike">
              <a:solidFill>
                <a:srgbClr val="99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motstanderne benekter at det kan ha vært formidlet urettmessig informasjon, bør de omgående tilkalle TL.</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AEDA26F8-E193-4DD4-9AD9-8055B90557E6}" type="slidenum">
              <a:t>4</a:t>
            </a:fld>
          </a:p>
        </p:txBody>
      </p:sp>
      <p:sp>
        <p:nvSpPr>
          <p:cNvPr id="7" name="PlaceHolder 6"/>
          <p:cNvSpPr>
            <a:spLocks noGrp="1"/>
          </p:cNvSpPr>
          <p:nvPr>
            <p:ph type="dt" idx="1"/>
          </p:nvPr>
        </p:nvSpPr>
        <p:spPr/>
        <p:txBody>
          <a:bodyPr/>
          <a:p>
            <a:fld id="{A176C87D-C70C-4A20-8AE3-BC3DAE9B010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år det blir valgt et ulovlig alternativ</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år en spiller har vektig grunn til å tro* at en motstander som hadde et logisk alternativ, har valgt en handlemåte som kan ha vært antydet ved urettmessig informasjon, bør denne straks tilkalle TL. </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br>
              <a:rPr sz="2400"/>
            </a:br>
            <a:br>
              <a:rPr sz="2400"/>
            </a:br>
            <a:r>
              <a:rPr b="0" lang="en-US" sz="2400" spc="-1" strike="noStrike">
                <a:solidFill>
                  <a:srgbClr val="990000"/>
                </a:solidFill>
                <a:latin typeface="Times New Roman"/>
              </a:rPr>
              <a:t>*Når spillet er slutt, eller for blindemanns vedkommende når hånden blir lagt med fremsiden opp.</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C157AA46-75CD-4688-8B92-2F2FB29C507B}" type="slidenum">
              <a:t>5</a:t>
            </a:fld>
          </a:p>
        </p:txBody>
      </p:sp>
      <p:sp>
        <p:nvSpPr>
          <p:cNvPr id="6" name="PlaceHolder 5"/>
          <p:cNvSpPr>
            <a:spLocks noGrp="1"/>
          </p:cNvSpPr>
          <p:nvPr>
            <p:ph type="dt" idx="1"/>
          </p:nvPr>
        </p:nvSpPr>
        <p:spPr/>
        <p:txBody>
          <a:bodyPr/>
          <a:p>
            <a:fld id="{B82AE857-B18B-4961-8EC6-22EDC5510C3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tting av paragrafen</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a:t>
            </a:r>
            <a:r>
              <a:rPr b="0" lang="en-US" sz="2800" spc="-1" strike="noStrike">
                <a:solidFill>
                  <a:srgbClr val="000000"/>
                </a:solidFill>
                <a:latin typeface="Times New Roman"/>
              </a:rPr>
              <a:t>om mulig bli ved bordet, og eventuelt</a:t>
            </a:r>
            <a:r>
              <a:rPr b="0" lang="en-US" sz="2800" spc="-1" strike="noStrike">
                <a:solidFill>
                  <a:srgbClr val="990000"/>
                </a:solidFill>
                <a:latin typeface="Times New Roman"/>
              </a:rPr>
              <a:t>) </a:t>
            </a:r>
            <a:r>
              <a:rPr b="1" i="1" lang="en-US" sz="2800" spc="-1" strike="noStrike">
                <a:solidFill>
                  <a:srgbClr val="990000"/>
                </a:solidFill>
                <a:latin typeface="Times New Roman"/>
              </a:rPr>
              <a:t>og være klar til å</a:t>
            </a:r>
            <a:r>
              <a:rPr b="0" lang="en-US" sz="2800" spc="-1" strike="noStrike">
                <a:solidFill>
                  <a:srgbClr val="990000"/>
                </a:solidFill>
                <a:latin typeface="Times New Roman"/>
              </a:rPr>
              <a:t> tildele et justert resultat hvis han mener at det har skjedd et lovbrudd som har ført til skade.</a:t>
            </a:r>
            <a:br>
              <a:rPr sz="2800"/>
            </a:br>
            <a:r>
              <a:rPr b="0" lang="en-US" sz="2800" spc="-1" strike="noStrike">
                <a:solidFill>
                  <a:srgbClr val="990000"/>
                </a:solidFill>
                <a:latin typeface="CG Times"/>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51D592C-28A6-4A45-AFE8-CD7779845836}" type="slidenum">
              <a:t>6</a:t>
            </a:fld>
          </a:p>
        </p:txBody>
      </p:sp>
      <p:sp>
        <p:nvSpPr>
          <p:cNvPr id="6" name="PlaceHolder 5"/>
          <p:cNvSpPr>
            <a:spLocks noGrp="1"/>
          </p:cNvSpPr>
          <p:nvPr>
            <p:ph type="dt" idx="1"/>
          </p:nvPr>
        </p:nvSpPr>
        <p:spPr/>
        <p:txBody>
          <a:bodyPr/>
          <a:p>
            <a:fld id="{407060F0-6EDA-44AD-96CB-E4201E8B9FDB}"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ruke § 16 A</a:t>
            </a:r>
            <a:endParaRPr b="0" lang="en-US" sz="4400" spc="-1" strike="noStrike">
              <a:solidFill>
                <a:srgbClr val="000066"/>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t må være en situasjon der det kan være formidlet urettmessig informasjon.</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nne situasjonen må kunne ”tolkes” slik at den ”foreslår” en handling fremfor en annen.</a:t>
            </a:r>
            <a:endParaRPr b="0" lang="en-US" sz="2800" spc="-1" strike="noStrike">
              <a:solidFill>
                <a:srgbClr val="990000"/>
              </a:solidFill>
              <a:latin typeface="Times New Roman"/>
            </a:endParaRPr>
          </a:p>
        </p:txBody>
      </p:sp>
      <p:sp>
        <p:nvSpPr>
          <p:cNvPr id="59"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lant logiske alternativer</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ksjon som velges av ca 30 % av spillere på samme nivå) </a:t>
            </a:r>
            <a:endParaRPr b="0" lang="en-US" sz="20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an makker til den som har gitt informasjonen ikke velge et logisk alternativ som er ”foreslått” av UI</a:t>
            </a:r>
            <a:endParaRPr b="0" lang="en-US" sz="28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2D8078E8-AA9C-4FCD-AB43-15B5A7685267}" type="slidenum">
              <a:t>7</a:t>
            </a:fld>
          </a:p>
        </p:txBody>
      </p:sp>
      <p:sp>
        <p:nvSpPr>
          <p:cNvPr id="7" name="PlaceHolder 6"/>
          <p:cNvSpPr>
            <a:spLocks noGrp="1"/>
          </p:cNvSpPr>
          <p:nvPr>
            <p:ph type="dt" idx="1"/>
          </p:nvPr>
        </p:nvSpPr>
        <p:spPr/>
        <p:txBody>
          <a:bodyPr/>
          <a:p>
            <a:fld id="{4239440A-C44A-42F7-9F24-530D6B42E49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et lovbrudd som har ført til skade</a:t>
            </a:r>
            <a:endParaRPr b="0" lang="en-US" sz="4400" spc="-1" strike="noStrike">
              <a:solidFill>
                <a:srgbClr val="000066"/>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kaden må være en følge av lovbruddet</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 må ha fått en dårligere score enn de ville ha fått dersom</a:t>
            </a:r>
            <a:endParaRPr b="0" lang="en-US" sz="3200" spc="-1" strike="noStrike">
              <a:solidFill>
                <a:srgbClr val="99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n må ikke ha bidratt til skaden ved irrasjonell, vill eller sjansepreget aksjo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2 gir reglene for å justere score</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BDA1E06D-4CE1-4C3C-B12A-F9FF3536206C}" type="slidenum">
              <a:t>8</a:t>
            </a:fld>
          </a:p>
        </p:txBody>
      </p:sp>
      <p:sp>
        <p:nvSpPr>
          <p:cNvPr id="7" name="PlaceHolder 6"/>
          <p:cNvSpPr>
            <a:spLocks noGrp="1"/>
          </p:cNvSpPr>
          <p:nvPr>
            <p:ph type="dt" idx="1"/>
          </p:nvPr>
        </p:nvSpPr>
        <p:spPr/>
        <p:txBody>
          <a:bodyPr/>
          <a:p>
            <a:fld id="{54A533AF-5436-495D-9A73-1EAC3839FF46}"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lert, manglende alert, feil melding og feil forklaring</a:t>
            </a:r>
            <a:endParaRPr b="0" lang="en-US" sz="4400" spc="-1" strike="noStrike">
              <a:solidFill>
                <a:srgbClr val="000066"/>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otparten har krav på å få vite hva som er makkerparets avtaler.</a:t>
            </a:r>
            <a:endParaRPr b="0" lang="en-US" sz="2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anglende alert og andre feil forklaringer skal rettes etter reglene i § 75 D</a:t>
            </a:r>
            <a:endParaRPr b="0" lang="en-US" sz="2800" spc="-1" strike="noStrike">
              <a:solidFill>
                <a:srgbClr val="990000"/>
              </a:solidFill>
              <a:latin typeface="Times New Roman"/>
            </a:endParaRPr>
          </a:p>
        </p:txBody>
      </p:sp>
      <p:sp>
        <p:nvSpPr>
          <p:cNvPr id="65" name="PlaceHolder 3"/>
          <p:cNvSpPr>
            <a:spLocks noGrp="1"/>
          </p:cNvSpPr>
          <p:nvPr>
            <p:ph/>
          </p:nvPr>
        </p:nvSpPr>
        <p:spPr>
          <a:xfrm>
            <a:off x="4419360" y="1981080"/>
            <a:ext cx="47242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at makker vekkes av en alert eller forklaring når han har meldt feil, eller oppdager at den som forklarer har glemt systemet er </a:t>
            </a:r>
            <a:br>
              <a:rPr sz="3200"/>
            </a:br>
            <a:r>
              <a:rPr b="0" lang="en-US" sz="3200" spc="-1" strike="noStrike" u="sng">
                <a:solidFill>
                  <a:srgbClr val="990000"/>
                </a:solidFill>
                <a:uFillTx/>
                <a:latin typeface="Times New Roman"/>
              </a:rPr>
              <a:t>Urettmessig informasjon </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79536A13-75AD-417D-BB0F-29C3397C57D1}" type="slidenum">
              <a:t>9</a:t>
            </a:fld>
          </a:p>
        </p:txBody>
      </p:sp>
      <p:sp>
        <p:nvSpPr>
          <p:cNvPr id="7" name="PlaceHolder 6"/>
          <p:cNvSpPr>
            <a:spLocks noGrp="1"/>
          </p:cNvSpPr>
          <p:nvPr>
            <p:ph type="dt" idx="1"/>
          </p:nvPr>
        </p:nvSpPr>
        <p:spPr/>
        <p:txBody>
          <a:bodyPr/>
          <a:p>
            <a:fld id="{D20588F2-0F7A-42DB-B1C2-0AE5431CE906}"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14:11:48Z</dcterms:created>
  <dc:creator>Per Nordland</dc:creator>
  <dc:description/>
  <dc:language>en-US</dc:language>
  <cp:lastModifiedBy>Per Nordland</cp:lastModifiedBy>
  <dcterms:modified xsi:type="dcterms:W3CDTF">2002-03-25T15:09:11Z</dcterms:modified>
  <cp:revision>6</cp:revision>
  <dc:subject/>
  <dc:title>§ 16 Urettmessig informasjon</dc:title>
</cp:coreProperties>
</file>